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5712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0512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3720" cy="4159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83596-6864-4EA5-8190-E677CF515C94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81160" y="706320"/>
            <a:ext cx="461016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B98-EE6A-4A86-A1B6-59E982B6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141-BC1D-4640-82CC-0D21DF25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DDD-D0BF-4575-99F0-C3A5E85D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39B-21CC-446F-8132-392B7B62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B9F3-DEF8-493B-8B87-D4EA17BE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7B98-53A2-4EC0-96A8-F0BF0F62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9A3C-1076-4B12-8637-689FE766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8503-C8D2-4B5E-93B0-5397F672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AC7F-FE40-48D7-9CEA-37860EFD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888D-954A-4A91-BDB5-26973F73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591E-DAF7-412C-BB62-EFE5C7D7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B87-98FB-4DF0-854D-0BD3EBFB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B23B-52B6-4066-9471-DCAACF91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CBF1-E8ED-4AB0-B1DC-2DBAD1F7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3C81-C16E-4080-BA38-9B29D533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5554-014B-4897-8383-DCA5E81A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66C0-B7E2-47E8-BE0B-6C0E7B9F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2EC-F038-41B8-8F31-6ABD7DCB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FD0-164B-4BCC-95D5-A24C92AD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3B8-98A8-40D6-9B34-8BC78C82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A34-A964-4BB9-B6EE-8D4DF32F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996-1B36-4DF9-B44A-41FC8C7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3F5-7B04-4C64-90C1-4CCB0188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9DB-9F33-4F16-BE9A-617E61C7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15360" indent="-3153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03440" indent="-259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0844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5196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184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EF1B0-7BCB-4BFC-8FE7-E6E9435B12E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46240"/>
            <a:ext cx="775512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2501D-ED87-436F-822D-75B7CC67F0AE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25400" indent="-2682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San Diego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anuary 15-16, 2009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ntario Institute for Cancer Resear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Browse 1.69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1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icGenePage 0.11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oPerl/BioGraphics spl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schema changes (but Changes.SQL will allow easy updat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dition of Chris Mungall's script to create views based on cvterm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74600"/>
            <a:ext cx="77594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Another GMOD success stor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15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HMI's Science Education Allian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llege freshme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olate and sequence phage samp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notate with Java WebStart, Chado and GBrow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production” now at 12 colleg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